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51675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524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5604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95280" y="0"/>
            <a:ext cx="305604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988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4880" y="4420800"/>
            <a:ext cx="5643360" cy="41893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9528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9F23-4FC4-4870-BAFC-E5903C0B1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9564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4276-1FC1-4C39-BE34-08441EFFA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99564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6576-D6BF-4B64-B1AA-EF5186AF6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002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04880" y="4420800"/>
            <a:ext cx="5643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99564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1039-86CB-4BA8-A11E-589F7A66B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99564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379C-16D8-4A29-B1D8-34DF5321B5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2002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04880" y="4420800"/>
            <a:ext cx="5643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99564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1FE8-86B4-45E7-AFB3-187049270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99564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AE8F-C2CE-41C8-9A44-305F35D84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002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04880" y="4420800"/>
            <a:ext cx="5643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99564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850B-94B4-489A-A0C0-3DE6D78E2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9564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1977-A12F-450B-9BEB-440579A55E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002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4880" y="4420800"/>
            <a:ext cx="5643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99564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1BDA-9F29-475F-9545-CE65BA9D0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99564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905F-4175-4458-98EA-8C5C21384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002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4880" y="4420800"/>
            <a:ext cx="5643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99564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BA65-54B0-40A1-87B6-352B9B66B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99564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019C-679E-4E0B-BF82-71209264A4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002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4880" y="4420800"/>
            <a:ext cx="5643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99564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7F67-8DE9-480C-957E-E31EC3335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99564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D0B9-2657-4DC2-B721-0F1E6BC69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2002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4880" y="4420800"/>
            <a:ext cx="5643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FE5-BF19-4354-841E-A10CECF5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FFBB-EA25-4AAA-BC79-C6DE97D3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1DD4-741D-4FCC-A525-55AE4AF8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602B-AB0B-473C-B4D5-29303D27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9B27-A068-450F-BFC6-54C29362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7F8F-6132-46C0-956F-24D1AFB5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2A4A-3102-4D02-85A4-46D399DA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A878-6D78-4A0A-8A69-1DFB2671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8171-F90A-4556-9C54-1418B97C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E6C7-7B1C-46CF-8330-8BB77345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6010-3B85-48C6-A755-307FD4F9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14B0-BF4D-4047-83BC-601FA9A9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1AF7-CF93-4CE4-BC1D-E35280A06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777600"/>
            <a:ext cx="8991720" cy="26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of solar energy per uni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Earth’s surface area depends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itu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th’s curved surface caus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itu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oser to the equator to receive more direct sunlight than latitudes farther north or s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"/>
          <p:cNvSpPr/>
          <p:nvPr/>
        </p:nvSpPr>
        <p:spPr>
          <a:xfrm>
            <a:off x="14400" y="0"/>
            <a:ext cx="88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affects climate?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TITUDE 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5"/>
          <p:cNvGrpSpPr/>
          <p:nvPr/>
        </p:nvGrpSpPr>
        <p:grpSpPr>
          <a:xfrm>
            <a:off x="1393920" y="3505320"/>
            <a:ext cx="6724080" cy="2813040"/>
            <a:chOff x="1393920" y="3505320"/>
            <a:chExt cx="6724080" cy="2813040"/>
          </a:xfrm>
        </p:grpSpPr>
        <p:pic>
          <p:nvPicPr>
            <p:cNvPr id="51" name="Picture 12" descr="C174_05A_MSS12-A"/>
            <p:cNvPicPr/>
            <p:nvPr/>
          </p:nvPicPr>
          <p:blipFill>
            <a:blip r:embed="rId1"/>
            <a:stretch/>
          </p:blipFill>
          <p:spPr>
            <a:xfrm>
              <a:off x="1393920" y="3505320"/>
              <a:ext cx="5541120" cy="281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3" descr="C174_05A_MSS12-B"/>
            <p:cNvPicPr/>
            <p:nvPr/>
          </p:nvPicPr>
          <p:blipFill>
            <a:blip r:embed="rId2"/>
            <a:stretch/>
          </p:blipFill>
          <p:spPr>
            <a:xfrm>
              <a:off x="6967800" y="3802320"/>
              <a:ext cx="1150200" cy="2343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1920" y="634680"/>
            <a:ext cx="8991720" cy="29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itu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ar the poles receive less solar energy and have lower average tempera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titud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ear the equator tend to have warmer climates than higher latitud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itle"/>
          <p:cNvSpPr/>
          <p:nvPr/>
        </p:nvSpPr>
        <p:spPr>
          <a:xfrm>
            <a:off x="0" y="0"/>
            <a:ext cx="806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affects climate?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C174_L1_P004a"/>
          <p:cNvPicPr/>
          <p:nvPr/>
        </p:nvPicPr>
        <p:blipFill>
          <a:blip r:embed="rId1"/>
          <a:stretch/>
        </p:blipFill>
        <p:spPr>
          <a:xfrm>
            <a:off x="2570040" y="3200400"/>
            <a:ext cx="3867120" cy="3400560"/>
          </a:xfrm>
          <a:prstGeom prst="rect">
            <a:avLst/>
          </a:prstGeom>
          <a:ln w="0">
            <a:noFill/>
          </a:ln>
        </p:spPr>
      </p:pic>
      <p:sp>
        <p:nvSpPr>
          <p:cNvPr id="56" name="title"/>
          <p:cNvSpPr/>
          <p:nvPr/>
        </p:nvSpPr>
        <p:spPr>
          <a:xfrm>
            <a:off x="14400" y="0"/>
            <a:ext cx="88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affects climate?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TITUDE 2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6480" y="838080"/>
            <a:ext cx="908064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ntains influence climate because they are barriers to prevailing wi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rea of low rainfall on the downwind slope of a mountain is called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in shad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"/>
          <p:cNvSpPr/>
          <p:nvPr/>
        </p:nvSpPr>
        <p:spPr>
          <a:xfrm>
            <a:off x="0" y="0"/>
            <a:ext cx="806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affects climate?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C174_L1_P005a"/>
          <p:cNvPicPr/>
          <p:nvPr/>
        </p:nvPicPr>
        <p:blipFill>
          <a:blip r:embed="rId1"/>
          <a:stretch/>
        </p:blipFill>
        <p:spPr>
          <a:xfrm>
            <a:off x="0" y="2995560"/>
            <a:ext cx="9080640" cy="3862440"/>
          </a:xfrm>
          <a:prstGeom prst="rect">
            <a:avLst/>
          </a:prstGeom>
          <a:ln w="0">
            <a:noFill/>
          </a:ln>
        </p:spPr>
      </p:pic>
      <p:sp>
        <p:nvSpPr>
          <p:cNvPr id="60" name="title"/>
          <p:cNvSpPr/>
          <p:nvPr/>
        </p:nvSpPr>
        <p:spPr>
          <a:xfrm>
            <a:off x="14400" y="0"/>
            <a:ext cx="88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affects climate?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AIN SHA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63600" y="609120"/>
            <a:ext cx="8393040" cy="16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mate is influenc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titu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 decreases 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titu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reases in the troposp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C174_L1_P004b"/>
          <p:cNvPicPr/>
          <p:nvPr/>
        </p:nvPicPr>
        <p:blipFill>
          <a:blip r:embed="rId1"/>
          <a:stretch/>
        </p:blipFill>
        <p:spPr>
          <a:xfrm>
            <a:off x="1514520" y="2527200"/>
            <a:ext cx="6091200" cy="3649680"/>
          </a:xfrm>
          <a:prstGeom prst="rect">
            <a:avLst/>
          </a:prstGeom>
          <a:ln w="0">
            <a:noFill/>
          </a:ln>
        </p:spPr>
      </p:pic>
      <p:sp>
        <p:nvSpPr>
          <p:cNvPr id="63" name="title"/>
          <p:cNvSpPr/>
          <p:nvPr/>
        </p:nvSpPr>
        <p:spPr>
          <a:xfrm>
            <a:off x="0" y="0"/>
            <a:ext cx="806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affects climate?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le"/>
          <p:cNvSpPr/>
          <p:nvPr/>
        </p:nvSpPr>
        <p:spPr>
          <a:xfrm>
            <a:off x="14400" y="0"/>
            <a:ext cx="88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affects climate?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85760" y="609480"/>
            <a:ext cx="8958240" cy="26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land heats and cools more quickly than water, climates along coastlines to remain somewhat con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iling winds extend the moderate temperatures farther in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le"/>
          <p:cNvSpPr/>
          <p:nvPr/>
        </p:nvSpPr>
        <p:spPr>
          <a:xfrm>
            <a:off x="14400" y="0"/>
            <a:ext cx="88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affects climate?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ATER 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xt_box"/>
          <p:cNvSpPr/>
          <p:nvPr/>
        </p:nvSpPr>
        <p:spPr>
          <a:xfrm>
            <a:off x="152280" y="914400"/>
            <a:ext cx="899172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ean currents modify clim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ulf Stream is a warm, northward current along the east coast of North Ame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ulf Stream brings warmer temperatures to portions of the United States and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le"/>
          <p:cNvSpPr/>
          <p:nvPr/>
        </p:nvSpPr>
        <p:spPr>
          <a:xfrm>
            <a:off x="14400" y="0"/>
            <a:ext cx="88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affects climate?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ATER 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8240" y="852480"/>
            <a:ext cx="8001000" cy="547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spcAft>
                <a:spcPts val="10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microclima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localized climate that is different from the climate of the larger area surrounding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spcAft>
                <a:spcPts val="10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ies are of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round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spcAft>
                <a:spcPts val="10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ity’s roads and buildings absorb solar radi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C174_L1_P007a"/>
          <p:cNvPicPr/>
          <p:nvPr/>
        </p:nvPicPr>
        <p:blipFill>
          <a:blip r:embed="rId1"/>
          <a:stretch/>
        </p:blipFill>
        <p:spPr>
          <a:xfrm>
            <a:off x="4572000" y="2438280"/>
            <a:ext cx="3809880" cy="2613240"/>
          </a:xfrm>
          <a:prstGeom prst="rect">
            <a:avLst/>
          </a:prstGeom>
          <a:ln w="0">
            <a:noFill/>
          </a:ln>
        </p:spPr>
      </p:pic>
      <p:sp>
        <p:nvSpPr>
          <p:cNvPr id="71" name="title"/>
          <p:cNvSpPr/>
          <p:nvPr/>
        </p:nvSpPr>
        <p:spPr>
          <a:xfrm>
            <a:off x="14400" y="0"/>
            <a:ext cx="88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affects climate?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ICRO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20520" y="220968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ttp://readingtonscience.wikispaces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8:25:33Z</dcterms:created>
  <dc:creator>administrator</dc:creator>
  <dc:description/>
  <dc:language>en-US</dc:language>
  <cp:lastModifiedBy>Krial, Sherry</cp:lastModifiedBy>
  <cp:lastPrinted>2013-03-11T12:23:12Z</cp:lastPrinted>
  <dcterms:modified xsi:type="dcterms:W3CDTF">2013-03-11T15:53:13Z</dcterms:modified>
  <cp:revision>4</cp:revision>
  <dc:subject/>
  <dc:title>Slide 1</dc:title>
</cp:coreProperties>
</file>